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png" ContentType="image/png"/>
  <Override PartName="/ppt/media/image8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C977-F9D7-43F2-B607-28207E4FE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E8E6-1048-4D9E-BA74-3490C01A8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6EFE-C983-423B-8C84-786AA81BE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155A-6381-4B0A-89E0-FFA00AC01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F13D-8732-42E9-B58D-44F0B4FB5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E114-3139-4A3C-BBDB-042253D57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9DFE-EAE4-457D-B7A4-067AB62C6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FAC0-89E1-414D-BF8C-CF2BDEBC0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1F8A-4B2B-4E33-883C-38890F286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575C-F26F-486F-AD6C-5C59C8B03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1E80-8241-4190-86FA-F2867B502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3E99-C8BE-4D87-8DAA-90B0CA322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F1953-29A8-411C-82E5-B3DEA64BDC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212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2010-08-25-13-56-44-1-all-nippon-airways-owns-pokmon-airplanes-pokm" descr=""/>
          <p:cNvPicPr/>
          <p:nvPr/>
        </p:nvPicPr>
        <p:blipFill>
          <a:blip r:embed="rId1"/>
          <a:stretch/>
        </p:blipFill>
        <p:spPr>
          <a:xfrm>
            <a:off x="152280" y="114480"/>
            <a:ext cx="9002880" cy="6743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2362320" y="1828800"/>
            <a:ext cx="35049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aper Planes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1371240"/>
            <a:ext cx="762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Our Favorite Paper Airplanes."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aper Airplane: Amazing Pape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irplanes (Old Title:Kool PaperAirplane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Web. 12 Jan. 2011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tp://www.amazingpaperairplanes.com/Favorites.html&gt;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51424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DTH Rocket Eandevors."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TH Rocket Eandevo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. 12 Jan. 2011. &lt;H:scienceScience fai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th gradeDTH Rocket Articles Improvi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rodynamics 5 Types of Drag.mht&gt;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3885840"/>
            <a:ext cx="693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Worldbook Online."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orldbook On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Web. 12 Jan. 2011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tp://www.worldbookonline.com/advanced/article?id=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6080&amp;st=airplane+designs&gt;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965920" y="316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unique-aircraft-paint-designs-6" descr=""/>
          <p:cNvPicPr/>
          <p:nvPr/>
        </p:nvPicPr>
        <p:blipFill>
          <a:blip r:embed="rId1"/>
          <a:stretch/>
        </p:blipFill>
        <p:spPr>
          <a:xfrm>
            <a:off x="152280" y="114480"/>
            <a:ext cx="8991720" cy="6743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3200400" y="457200"/>
            <a:ext cx="3352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Problem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4267080"/>
            <a:ext cx="4495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41911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problem is what type of aerodynamics or plane type will work better in strong wi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77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921280" y="340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srvr" descr=""/>
          <p:cNvPicPr/>
          <p:nvPr/>
        </p:nvPicPr>
        <p:blipFill>
          <a:blip r:embed="rId1"/>
          <a:stretch/>
        </p:blipFill>
        <p:spPr>
          <a:xfrm>
            <a:off x="152280" y="130320"/>
            <a:ext cx="8991720" cy="76928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3505320" y="380880"/>
            <a:ext cx="2514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Hypothesi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3429000"/>
            <a:ext cx="2819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hypothesis is that the plane with the best type of aerodynamics and weight will work best. My guess is that it will probably be the Space Shut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978520" y="410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strike" descr=""/>
          <p:cNvPicPr/>
          <p:nvPr/>
        </p:nvPicPr>
        <p:blipFill>
          <a:blip r:embed="rId1"/>
          <a:stretch/>
        </p:blipFill>
        <p:spPr>
          <a:xfrm>
            <a:off x="152280" y="114480"/>
            <a:ext cx="8991720" cy="67435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5105520" y="457200"/>
            <a:ext cx="34192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Procedur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3352680"/>
            <a:ext cx="33526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)Research different types of aerodynam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)Fill out first part of the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)Gather all mater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)Build pla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)Test the pla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)Record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)Finish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)Start and finish slidesh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)Upload to Wikisp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.) (Optional) Start and finish poster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991720" cy="67057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5715000" y="4648320"/>
            <a:ext cx="28576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Material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228600"/>
            <a:ext cx="3810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whole lot of paper!!!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s for pla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book and penc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per Airpla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.A. The Delta D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.A. The Delta Figh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.A. The Delta Fighter L.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.A. The Bally Button Gl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.A. The Space Shut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.A. The Phat Gl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52280" y="114480"/>
            <a:ext cx="8991720" cy="67435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 rot="5400000">
            <a:off x="1002960" y="1892160"/>
            <a:ext cx="2146320" cy="648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9900"/>
                </a:soli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Results</a:t>
            </a:r>
            <a:endParaRPr b="0" lang="en-US" sz="1800" spc="1" strike="noStrike">
              <a:ln w="0">
                <a:noFill/>
              </a:ln>
              <a:solidFill>
                <a:srgbClr val="669900"/>
              </a:soli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2" name=""/>
          <p:cNvSpPr/>
          <p:nvPr/>
        </p:nvSpPr>
        <p:spPr>
          <a:xfrm>
            <a:off x="2438280" y="151920"/>
            <a:ext cx="6477120" cy="22842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lta Fighter-The plane flew straight for 1 second then flew of course to the right. The end result was b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lta Fighter L.A.-It stayed straight on course and almost hit the fan but at the last minute it took the wind and rode above the fan for another second or tw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pace Shuttle-The space shuttle was the worst. It didn’t get remotely close to the wind or fan before it turned out of cour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ly Button Glider-It was pretty good. It stayed on course and took the wind toward the r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lta Dart-The plane somehow spiraled straight and hit the fan. It was b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hat Glider-The Phat Glider was probably the best because like the Delta Fighter L.A. it took the wind and rode it upward and continued to ride it upward onto a sh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600200" y="4648320"/>
          <a:ext cx="5334120" cy="1852560"/>
        </p:xfrm>
        <a:graphic>
          <a:graphicData uri="http://schemas.openxmlformats.org/drawingml/2006/table">
            <a:tbl>
              <a:tblPr/>
              <a:tblGrid>
                <a:gridCol w="1125360"/>
                <a:gridCol w="1084320"/>
                <a:gridCol w="1020960"/>
                <a:gridCol w="1019160"/>
                <a:gridCol w="1084320"/>
              </a:tblGrid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99cc00"/>
                          </a:solidFill>
                          <a:uFillTx/>
                          <a:latin typeface="Arial"/>
                          <a:ea typeface="Times New Roman"/>
                        </a:rPr>
                        <a:t>Airpla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99cc00"/>
                          </a:solidFill>
                          <a:uFillTx/>
                          <a:latin typeface="Arial"/>
                          <a:ea typeface="Times New Roman"/>
                        </a:rPr>
                        <a:t>Hang T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99cc00"/>
                          </a:solidFill>
                          <a:uFillTx/>
                          <a:latin typeface="Arial"/>
                          <a:ea typeface="Times New Roman"/>
                        </a:rPr>
                        <a:t>Weigh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99cc00"/>
                          </a:solidFill>
                          <a:uFillTx/>
                          <a:latin typeface="Arial"/>
                          <a:ea typeface="Times New Roman"/>
                        </a:rPr>
                        <a:t>Siz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99cc00"/>
                          </a:solidFill>
                          <a:uFillTx/>
                          <a:latin typeface="Arial"/>
                          <a:ea typeface="Times New Roman"/>
                        </a:rPr>
                        <a:t>Resist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cc00"/>
                          </a:solidFill>
                          <a:latin typeface="Arial"/>
                          <a:ea typeface="Times New Roman"/>
                        </a:rPr>
                        <a:t>Delta F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cc00"/>
                          </a:solidFill>
                          <a:latin typeface="Arial"/>
                          <a:ea typeface="Times New Roman"/>
                        </a:rPr>
                        <a:t>2 secon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cc00"/>
                          </a:solidFill>
                          <a:latin typeface="Arial"/>
                          <a:ea typeface="Times New Roman"/>
                        </a:rPr>
                        <a:t>1 oz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cc00"/>
                          </a:solidFill>
                          <a:latin typeface="Arial"/>
                          <a:ea typeface="Times New Roman"/>
                        </a:rPr>
                        <a:t>Sm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cc00"/>
                          </a:solidFill>
                          <a:latin typeface="Arial"/>
                          <a:ea typeface="Times New Roman"/>
                        </a:rPr>
                        <a:t>B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cc00"/>
                          </a:solidFill>
                          <a:latin typeface="Arial"/>
                          <a:ea typeface="Times New Roman"/>
                        </a:rPr>
                        <a:t>Delta F.L.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cc00"/>
                          </a:solidFill>
                          <a:latin typeface="Arial"/>
                          <a:ea typeface="Times New Roman"/>
                        </a:rPr>
                        <a:t>3 secon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cc00"/>
                          </a:solidFill>
                          <a:latin typeface="Arial"/>
                          <a:ea typeface="Times New Roman"/>
                        </a:rPr>
                        <a:t>1 oz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cc00"/>
                          </a:solidFill>
                          <a:latin typeface="Arial"/>
                          <a:ea typeface="Times New Roman"/>
                        </a:rPr>
                        <a:t>Lo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cc00"/>
                          </a:solidFill>
                          <a:latin typeface="Arial"/>
                          <a:ea typeface="Times New Roman"/>
                        </a:rPr>
                        <a:t>Goo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cc00"/>
                          </a:solidFill>
                          <a:latin typeface="Arial"/>
                          <a:ea typeface="Times New Roman"/>
                        </a:rPr>
                        <a:t>Space 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cc00"/>
                          </a:solidFill>
                          <a:latin typeface="Arial"/>
                          <a:ea typeface="Times New Roman"/>
                        </a:rPr>
                        <a:t>3 secon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cc00"/>
                          </a:solidFill>
                          <a:latin typeface="Arial"/>
                          <a:ea typeface="Times New Roman"/>
                        </a:rPr>
                        <a:t>1 oz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cc00"/>
                          </a:solidFill>
                          <a:latin typeface="Arial"/>
                          <a:ea typeface="Times New Roman"/>
                        </a:rPr>
                        <a:t>Sm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cc00"/>
                          </a:solidFill>
                          <a:latin typeface="Arial"/>
                          <a:ea typeface="Times New Roman"/>
                        </a:rPr>
                        <a:t>B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cc00"/>
                          </a:solidFill>
                          <a:latin typeface="Arial"/>
                          <a:ea typeface="Times New Roman"/>
                        </a:rPr>
                        <a:t>B.B. Glid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cc00"/>
                          </a:solidFill>
                          <a:latin typeface="Arial"/>
                          <a:ea typeface="Times New Roman"/>
                        </a:rPr>
                        <a:t>4 secon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cc00"/>
                          </a:solidFill>
                          <a:latin typeface="Arial"/>
                          <a:ea typeface="Times New Roman"/>
                        </a:rPr>
                        <a:t>1 oz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cc00"/>
                          </a:solidFill>
                          <a:latin typeface="Arial"/>
                          <a:ea typeface="Times New Roman"/>
                        </a:rPr>
                        <a:t>Medi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cc00"/>
                          </a:solidFill>
                          <a:latin typeface="Arial"/>
                          <a:ea typeface="Times New Roman"/>
                        </a:rPr>
                        <a:t>Goo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cc00"/>
                          </a:solidFill>
                          <a:latin typeface="Arial"/>
                          <a:ea typeface="Times New Roman"/>
                        </a:rPr>
                        <a:t>Delta D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cc00"/>
                          </a:solidFill>
                          <a:latin typeface="Arial"/>
                          <a:ea typeface="Times New Roman"/>
                        </a:rPr>
                        <a:t>2 secon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cc00"/>
                          </a:solidFill>
                          <a:latin typeface="Arial"/>
                          <a:ea typeface="Times New Roman"/>
                        </a:rPr>
                        <a:t>1 oz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cc00"/>
                          </a:solidFill>
                          <a:latin typeface="Arial"/>
                          <a:ea typeface="Times New Roman"/>
                        </a:rPr>
                        <a:t>Lo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cc00"/>
                          </a:solidFill>
                          <a:latin typeface="Arial"/>
                          <a:ea typeface="Times New Roman"/>
                        </a:rPr>
                        <a:t>B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cc00"/>
                          </a:solidFill>
                          <a:latin typeface="Arial"/>
                          <a:ea typeface="Times New Roman"/>
                        </a:rPr>
                        <a:t>Phat G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cc00"/>
                          </a:solidFill>
                          <a:latin typeface="Arial"/>
                          <a:ea typeface="Times New Roman"/>
                        </a:rPr>
                        <a:t>5 secon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cc00"/>
                          </a:solidFill>
                          <a:latin typeface="Arial"/>
                          <a:ea typeface="Times New Roman"/>
                        </a:rPr>
                        <a:t>1 oz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cc00"/>
                          </a:solidFill>
                          <a:latin typeface="Arial"/>
                          <a:ea typeface="Times New Roman"/>
                        </a:rPr>
                        <a:t>Lar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cc00"/>
                          </a:solidFill>
                          <a:latin typeface="Arial"/>
                          <a:ea typeface="Times New Roman"/>
                        </a:rPr>
                        <a:t>Goo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50000">
              <a:srgbClr val="0033cc"/>
            </a:gs>
            <a:gs pos="100000">
              <a:srgbClr val="ff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991720" cy="6705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609480" y="3733920"/>
            <a:ext cx="3038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Conclusions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45684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hypothesis was wrong. I thought that the space shuttle would be the best because it was made and deigned for high winds but I was wrong. It turns out the Space shuttle works better just flying straight with calm wind not hard blowing wi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52280" y="114480"/>
            <a:ext cx="8991720" cy="67435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4648320" y="457200"/>
            <a:ext cx="33526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Graph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304920" y="4419720"/>
          <a:ext cx="4952880" cy="1711080"/>
        </p:xfrm>
        <a:graphic>
          <a:graphicData uri="http://schemas.openxmlformats.org/drawingml/2006/table">
            <a:tbl>
              <a:tblPr/>
              <a:tblGrid>
                <a:gridCol w="1166760"/>
                <a:gridCol w="1082880"/>
                <a:gridCol w="869760"/>
                <a:gridCol w="907920"/>
                <a:gridCol w="92556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Airpla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Hang T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Weigh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Siz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Resist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lta F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secon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oz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m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lta F.L.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secon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oz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oo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ce 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secon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oz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m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.B. Glid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secon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oz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di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oo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lta D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secon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oz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at Glid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secon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oz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r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oo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991720" cy="66898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685800" y="685800"/>
            <a:ext cx="44863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cknowledgements</a:t>
            </a:r>
            <a:endParaRPr b="0" i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3886200"/>
            <a:ext cx="23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72200" y="533520"/>
            <a:ext cx="236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thank Mrs. Riffel first off for the time to work on my project and showing me Wikispaces. Thank you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3809880"/>
            <a:ext cx="2514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also thank the boys who flew the planes Zane, Jayde, Dallas, Gus, and Alex. Thanks 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USD376</cp:lastModifiedBy>
  <cp:lastPrinted>2009-04-22T19:24:48Z</cp:lastPrinted>
  <dcterms:modified xsi:type="dcterms:W3CDTF">2011-02-17T20:22:26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